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B0B7-E76E-4FD8-B98B-BE07C939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0741-A4A0-49A0-BD20-0460A9F3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9D7-5DA8-4A2F-8FBD-BCECFC65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790-6A57-4AFC-A16A-47A0866D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DAB7-2BEE-4011-A3C7-28F46F91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B1B2-D596-4087-A5B4-B75AD082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11B1-8EF2-4E80-8485-CDFA09FB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73C0-6676-462D-A397-690F7E5C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2A82-059A-4611-BC33-405C3133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1BBE-EF7F-41C3-B5F8-07B31161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8A9E-5B02-44BD-9A50-9DEB2CF9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303-D88F-4C1E-9F1F-92A52257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95DF-B95E-4BD3-9FE3-C7350404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F74F-46A1-4A39-BD80-666B2890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52C2-3410-4034-97B6-EE047580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C977-BD88-4AD1-8038-E0578F83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86F3-94DF-4BF3-8980-F831C283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965-039A-48C2-916C-8881AC4F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FB3D-00CD-417A-81DC-1ECCAC42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CC1B-FB66-4794-8E73-DC86123C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FC7-0CD7-46D8-B387-8262BC3C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D6E-9F09-41C6-AC36-2ADD4F1B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C0E-FDD1-4787-9557-16EA6E7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51A1-E189-4B66-9566-1387B96E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17D1-63CA-4118-8151-2FA8A8B57BF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74E5-CE69-40CA-AC57-939E88E8C2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00120" y="357192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Научная деятельность университета в 2007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1" descr=""/>
          <p:cNvPicPr/>
          <p:nvPr/>
        </p:nvPicPr>
        <p:blipFill>
          <a:blip r:embed="rId1"/>
          <a:stretch/>
        </p:blipFill>
        <p:spPr>
          <a:xfrm>
            <a:off x="3929040" y="18572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Эффективность деятельности диссертационных советов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2920" y="1214280"/>
          <a:ext cx="8713800" cy="265428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Шифр сов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212.197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212.197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еречень научных специальностей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которым проводится защи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7 – Гидрология суши, водные ресурсы, гидрохим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8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5 – Геоинформатика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6 – Геоэк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27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Гидрология суши, водные ресурсы, гидрохимия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030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защищенны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иссертац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Издательская деятельность в 2007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050920" y="836640"/>
          <a:ext cx="5040360" cy="485460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графии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28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нные российскими издательствами, из ни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тельством «Высшая школ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дательством ву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борники научных трудов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ждународные научные конференции и симпозиу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сборн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ики и учебные пособия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грифом УМО и НМ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грифом Минобрнауки Росс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другими грифам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атьи, всег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зарубежных изда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—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российских издания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ебные программы и методические указ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тем по количеству и объему 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3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по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85440" cy="4338720"/>
        </p:xfrm>
        <a:graphic>
          <a:graphicData uri="http://schemas.openxmlformats.org/drawingml/2006/table">
            <a:tbl>
              <a:tblPr/>
              <a:tblGrid>
                <a:gridCol w="1551240"/>
                <a:gridCol w="517320"/>
                <a:gridCol w="959040"/>
                <a:gridCol w="517320"/>
                <a:gridCol w="897120"/>
                <a:gridCol w="506160"/>
                <a:gridCol w="957240"/>
                <a:gridCol w="517680"/>
                <a:gridCol w="959040"/>
                <a:gridCol w="517320"/>
                <a:gridCol w="885960"/>
              </a:tblGrid>
              <a:tr h="287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.агентство по обр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Мин.обр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39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77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71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19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. агентство по науке и инн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Роснаука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3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3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бъект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13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8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0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44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9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/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98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5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32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ные контра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774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8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бственные сред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8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8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1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тем по факультетам за период с 2003 по 2007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85840" y="1285920"/>
          <a:ext cx="8605800" cy="4413240"/>
        </p:xfrm>
        <a:graphic>
          <a:graphicData uri="http://schemas.openxmlformats.org/drawingml/2006/table">
            <a:tbl>
              <a:tblPr/>
              <a:tblGrid>
                <a:gridCol w="1476360"/>
                <a:gridCol w="468360"/>
                <a:gridCol w="900000"/>
                <a:gridCol w="503280"/>
                <a:gridCol w="936720"/>
                <a:gridCol w="504720"/>
                <a:gridCol w="934920"/>
                <a:gridCol w="505080"/>
                <a:gridCol w="934920"/>
                <a:gridCol w="504720"/>
                <a:gridCol w="936720"/>
              </a:tblGrid>
              <a:tr h="36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-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14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5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7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34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5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16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94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5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68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7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.-гум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5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81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6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 1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45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21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Основные научные направления РГГ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28760" y="928800"/>
          <a:ext cx="8256600" cy="5519520"/>
        </p:xfrm>
        <a:graphic>
          <a:graphicData uri="http://schemas.openxmlformats.org/drawingml/2006/table">
            <a:tbl>
              <a:tblPr/>
              <a:tblGrid>
                <a:gridCol w="462960"/>
                <a:gridCol w="6166080"/>
                <a:gridCol w="1411920"/>
                <a:gridCol w="2160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звание научного направления (научной школ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окружающей среды, мониторинг, моделирование возникновения и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, международные про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водные сведения о выполнении НИР в 2007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95280" y="1197000"/>
          <a:ext cx="8302680" cy="477684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точник финансир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ичество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67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науке и иннов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2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ист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ства Субъектов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ные контрак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бственные средства ВУ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85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Сведения по НИР за 2007 год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(по факультетам РГГМ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42920" y="1214280"/>
          <a:ext cx="8834400" cy="4975560"/>
        </p:xfrm>
        <a:graphic>
          <a:graphicData uri="http://schemas.openxmlformats.org/drawingml/2006/table">
            <a:tbl>
              <a:tblPr/>
              <a:tblGrid>
                <a:gridCol w="1285920"/>
                <a:gridCol w="285840"/>
                <a:gridCol w="714240"/>
                <a:gridCol w="214200"/>
                <a:gridCol w="811440"/>
                <a:gridCol w="287280"/>
                <a:gridCol w="758880"/>
                <a:gridCol w="214200"/>
                <a:gridCol w="642960"/>
                <a:gridCol w="214200"/>
                <a:gridCol w="571680"/>
                <a:gridCol w="214200"/>
                <a:gridCol w="714240"/>
                <a:gridCol w="285840"/>
                <a:gridCol w="642960"/>
                <a:gridCol w="214200"/>
                <a:gridCol w="762120"/>
              </a:tblGrid>
              <a:tr h="863640">
                <a:tc rowSpan="2">
                  <a:txBody>
                    <a:bodyPr lIns="36000" rIns="36000" tIns="540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деральное Агентство по науке и инновация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гиональные программы (Санкт-Петербур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мини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рубеж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83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7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71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2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45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9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30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6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68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0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78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4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53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65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66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40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 58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0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90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7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76092"/>
                </a:solidFill>
                <a:latin typeface="Arial"/>
                <a:ea typeface="Arial"/>
              </a:rPr>
              <a:t>Сведения по НИР за 2007 год (по факультетам, кафедрам РГГМУ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332000" y="333360"/>
          <a:ext cx="6553080" cy="7120080"/>
        </p:xfrm>
        <a:graphic>
          <a:graphicData uri="http://schemas.openxmlformats.org/drawingml/2006/table">
            <a:tbl>
              <a:tblPr/>
              <a:tblGrid>
                <a:gridCol w="1800000"/>
                <a:gridCol w="2303640"/>
                <a:gridCol w="1152360"/>
                <a:gridCol w="12970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ульте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фед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л-во те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мма, тыс. руб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К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09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ческих про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605,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Ф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КО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физики и гидропрогноз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и суш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55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метр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дезии и гидроге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чес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4,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УПЗ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417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 и ОП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702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НЕСК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И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853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В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кладной экологи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822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физ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з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родно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темат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ре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им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лог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ческ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 социально-гуманитарных нау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ки и менеджмен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П и У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циально-гуманитарных нау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енная кафедр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344,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761,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рской институт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4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итут геоэкологического инжинири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374,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 819,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6092"/>
                </a:solidFill>
                <a:latin typeface="Arial"/>
                <a:ea typeface="Arial"/>
              </a:rPr>
              <a:t>Участие в выставках и конференциях в 2007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8440" y="1428840"/>
            <a:ext cx="71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2007 году Университет участвова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5 выставк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том числе 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международных), представи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16 экспонато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 36 конференция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(из них 30 международных и 6 на базе вуз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прошлый год получи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наград (премий, дипломов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Подготовка высококвалифицированных кадров (аспирантура)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2920" y="1071720"/>
          <a:ext cx="8785080" cy="5959440"/>
        </p:xfrm>
        <a:graphic>
          <a:graphicData uri="http://schemas.openxmlformats.org/drawingml/2006/table">
            <a:tbl>
              <a:tblPr/>
              <a:tblGrid>
                <a:gridCol w="2233440"/>
                <a:gridCol w="574920"/>
                <a:gridCol w="649080"/>
                <a:gridCol w="647640"/>
                <a:gridCol w="648000"/>
                <a:gridCol w="647640"/>
                <a:gridCol w="792000"/>
                <a:gridCol w="649440"/>
                <a:gridCol w="792000"/>
                <a:gridCol w="503280"/>
                <a:gridCol w="647640"/>
              </a:tblGrid>
              <a:tr h="452160">
                <a:tc rowSpan="3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ия аспи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было до окончания с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ы – граждане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ы – граждане Российской Федер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аспи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аспирантов – граждан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1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Распределение аспирантов, обучающихся за счет средств ФБ по отраслям науки и специальностям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268280"/>
          <a:ext cx="8802720" cy="541980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02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науки и специа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.ч. 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з них очн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кономика и управление народным хозяйств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науки о Земл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я суши, гидрохимия, водные ресурс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, агрометеор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информа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еоэк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Подготовка высококвалифицированных кадров (докторантура) в 200</a:t>
            </a:r>
            <a:r>
              <a:rPr b="0" lang="en-US" sz="1800" spc="-1" strike="noStrike">
                <a:solidFill>
                  <a:srgbClr val="376092"/>
                </a:solidFill>
                <a:latin typeface="Arial"/>
                <a:ea typeface="Arial"/>
              </a:rPr>
              <a:t>7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  <a:ea typeface="Arial"/>
              </a:rPr>
              <a:t>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28760" y="1071720"/>
          <a:ext cx="8229600" cy="4611600"/>
        </p:xfrm>
        <a:graphic>
          <a:graphicData uri="http://schemas.openxmlformats.org/drawingml/2006/table">
            <a:tbl>
              <a:tblPr/>
              <a:tblGrid>
                <a:gridCol w="3251160"/>
                <a:gridCol w="1439640"/>
                <a:gridCol w="936720"/>
                <a:gridCol w="1262160"/>
                <a:gridCol w="1339920"/>
              </a:tblGrid>
              <a:tr h="566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ия докто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на начало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актический выпус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отчетном год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ленность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конец 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</a:tr>
              <a:tr h="58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 защитой диссерт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 докторан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9f1">
                        <a:alpha val="9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идрология суши водные ресурсы, гидрохим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етеорология, климат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кеаноло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4T16:03:37Z</dcterms:modified>
  <cp:revision>324</cp:revision>
  <dc:subject/>
  <dc:title>Итоговая сессия Ученого совета РГГМУ</dc:title>
</cp:coreProperties>
</file>